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223-18E3-4B78-8435-6A1EB10E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A5A-2B28-44A6-B17B-42266CF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145-41D2-4864-BD8C-E4BB6B44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650-6EF8-4FD2-B917-74CBA33E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02EC-753A-40EB-B513-79EC5A14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FA0-AE51-4D40-B41F-75D07BF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7DE4-6C16-480F-A499-E4027F1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456-4478-499F-BE3F-20B76EF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C7A-4D8F-4AAB-963B-78715917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187-AA6E-4F52-897F-BA7242BB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7DD1-7ACE-4E3D-8061-00DD06F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0FD-49B5-4530-B8E7-3EAA08B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5C3-871E-45AE-A246-793DEBE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B27-7C47-417F-ABD6-7513F2C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B8B6-C234-4958-800F-924DE7D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1BF-BA16-4BD0-84D7-A5CD87E9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064B-7A36-4F30-B459-A13837E1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69DA-8B2A-4FD7-99A8-C28DF3C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BA04-8C2F-450F-8CD5-0346C39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F8DA-22B3-4E63-8423-51311E8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66E1-BBA0-4701-8463-AC3624B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2A6D-C686-42BE-8185-E251291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75F-245F-4475-9336-FE61347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1AB6-D63D-4F7D-8C35-043C79A4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EFB4-B383-49EC-8841-688D2E2A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72C4-6E87-482C-9D2C-9470C51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C727-2B0D-470B-ACE4-A4E24C2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7D87-0FDE-4FE6-9252-D412811A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B0B5-EA8C-49EB-ADC9-F014349F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A52C-8CF6-4AFE-9F2C-29F296F9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59C2-928E-434F-9354-71172A90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B2D6-B1CA-4F41-A754-C22494C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1503-8A00-4B72-AC55-A2327CBD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632-C33D-4F03-86BE-E6385AC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61AB-71FD-4AE0-A6AA-1447B84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8BFF-94E2-41E0-A8F5-764F967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93DB-0371-47E8-BB8B-DFEA95F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B088-0C0C-4C8D-8219-D2C2834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871B-012B-401C-977F-B501D13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86F9-E336-4766-B53F-CFA724C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53DC-8CDC-4505-9F36-74E938F8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B1AD-0AA4-4008-B152-46CC3648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C65A-387B-47DE-AF26-5B567735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1ADD-94C6-4070-921B-B8CDCC9A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F05-BB99-466C-9187-9FE17F9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7039-3390-4930-82CC-394EC05C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7DB6-9DBB-4A88-A4F9-E8D4D998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01FC-C22D-44E9-9C46-90EF6D16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BF43-6BA3-424B-BE12-6D02F0F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A38E-C56A-4B73-B997-85B7B02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4923-C061-4696-B8D1-C1145B3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0B36-2674-44BA-9D6A-CF60E2C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ACF7-43C2-4F26-94C2-9CDF614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2991-CAA7-4F72-ABD7-641B23D5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FAAD-BD55-4483-8ABC-311E983F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56B-C455-4363-A848-6793A41B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DDFC-005E-4B96-9414-D5DDFC0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9B9E4-9019-47C5-8B0E-3E318D01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A0AC4-506E-4080-989B-036EE9B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7A653-B49E-49A9-9ADD-483DE495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1223-86BA-4A3D-93FB-4AF1972C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6CE4E-0D0C-48C9-A5A2-FC0A9963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6077A-410C-4068-8666-0099B22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87A3-3479-47B9-8744-47B14CF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80EF-BD85-49D5-A474-E759448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C808-C937-46E9-B5E7-59159A8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41B-6A51-4077-B90C-2077883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F1C5-A418-47A7-B0C8-F14BB2EA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C787-0E91-45F9-B952-CB75E930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C3B4-0B9F-4C2D-98E1-6C409B90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E95E-68D0-4B7F-BBBC-D5D5A5D5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BA86-AC98-48DA-ACB9-70B4C2B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27DB-E285-438B-9F65-C5A5875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3A54-852F-48A4-81A6-FAB3A64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E99F-5F2A-46D2-988C-5C5C04A4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AFD1-F47D-461F-8A89-881D5B8C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84E9-BB40-44EC-9880-5522CFF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CEB-8F3F-4F16-A08E-9AA5563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A72E-184C-44E6-B439-40C8B83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6907-1635-4A4E-84B4-B6ED7CC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A081-46ED-47DD-80E3-F7ED5598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97FB-1C91-42C1-BDB6-68AA82AF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6BED-A48D-4E74-B1EA-DEACB2FD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455-DD8F-44FF-9939-058A810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762-0B48-465D-8D9E-B283E23E8488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84E9-1154-460B-AF85-D191E124D67F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4835-F4BA-4C97-9EC5-86F48FF67C7C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188-D610-422E-82F2-6144A5D37487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223-051E-436B-981C-79E669950903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28EA-349E-40F2-8E32-B97DAC7C08F2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8DD-D8C0-434B-8400-A5228081705B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7680240" cy="1822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-1219680" y="426708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347" name="Picture 4" descr="C:\Users\Elev\Desktop\france-2-logo.jpg"/>
          <p:cNvPicPr/>
          <p:nvPr/>
        </p:nvPicPr>
        <p:blipFill>
          <a:blip r:embed="rId2"/>
          <a:stretch/>
        </p:blipFill>
        <p:spPr>
          <a:xfrm>
            <a:off x="5851440" y="3352680"/>
            <a:ext cx="2911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Comic Sans MS"/>
              </a:rPr>
              <a:t>Les programmes sur France2:</a:t>
            </a:r>
            <a:endParaRPr b="0" lang="en-US" sz="4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1447560"/>
            <a:ext cx="8381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Documentaire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Series et fiction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Divertissment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Juex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Sport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Magazine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Culture</a:t>
            </a:r>
            <a:endParaRPr b="0" lang="en-US" sz="4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Kanye West rend visite à Occupy Wall Stree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ntroduce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  <a:ea typeface="Arial"/>
              </a:rPr>
              <a:t>ţ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 cateva informatii generale 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  <a:ea typeface="Arial"/>
              </a:rPr>
              <a:t>ş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 atractive despre tipul de emisiune prezentat mai su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Introduce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  <a:ea typeface="Arial"/>
              </a:rPr>
              <a:t>ţ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i alt tip de emisiuni difuzate (ex. seriale)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La une (emisiunea cea mai interesanta de pe postul respectiv)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Motivati modul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n care postul tv ales v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influen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eaz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via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a de zi cu zi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Argumenta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i r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punsul din perspectiva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nv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ţ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rii limbii franceze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user</cp:lastModifiedBy>
  <dcterms:modified xsi:type="dcterms:W3CDTF">2011-10-18T19:15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